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8C5-B7E2-4A8E-B04B-9582AC48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492-CE4F-4DC8-93B5-AA4073D8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9F2-72D8-4A9E-852C-DF8B3D18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BE9-AF3F-4150-AABA-DA2467FE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BEA0-2F17-49B1-A2AE-7324C826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04F6-27CA-41C9-9FCD-C75A68A7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F0DF-6380-4604-AA38-9BABE1E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6490-D245-4BDC-8222-4C0C3B8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049-369D-4D26-9AF3-70FDB83C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E0C-5BA6-4A5B-A8B1-ECE366D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F99-C051-4D7D-8DEA-1F298BB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B44-EEDA-4A60-80C8-38A2B254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7F6E-144A-4352-AC61-CFFA0296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B613-C6AC-49F4-A583-F3A383F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5BF9-ABF1-4D9E-A1CD-930E773B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D6F-566C-4606-8964-B10EA2D8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F80-1647-4B64-A053-29571843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281-D3D3-46AC-A154-7F96949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92E-81A1-4FAE-BD03-D66A0E31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78B-F01A-41B6-A66D-892B60B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677-6FB4-4151-A579-BC194DE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9B1-7747-4770-BB57-56F3929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3C9-E4E8-404C-ACAD-35010DE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77E-0FF1-48FF-9CB5-34BD4D0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CD5-86C5-4186-A95A-93762497AE3F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672-9535-487B-9281-9045FAC0A6A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156280"/>
            <a:ext cx="6659640" cy="33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نا غلبت المو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136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لأجلِ زلاّتِنا ماتَ الـمسيح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ولأجلِ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تبريرِ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قد قام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5508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نتم أموات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لخطيئ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حياءٌ لله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ـمسيح يسوع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238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0"/>
            <a:ext cx="594036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أنتم قمتم م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حياتُكم هيَ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انظروا إلى الأعا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إلى مجده ارتفعو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1600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-</cp:lastModifiedBy>
  <dcterms:modified xsi:type="dcterms:W3CDTF">2003-04-20T07:08:51Z</dcterms:modified>
  <cp:revision>14</cp:revision>
  <dc:subject/>
  <dc:title>Slide 1</dc:title>
</cp:coreProperties>
</file>